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28840"/>
            <a:ext cx="9132840" cy="74520"/>
          </a:xfrm>
          <a:prstGeom prst="rect">
            <a:avLst/>
          </a:prstGeom>
          <a:gradFill rotWithShape="0">
            <a:gsLst>
              <a:gs pos="0">
                <a:srgbClr val="653d01"/>
              </a:gs>
              <a:gs pos="50000">
                <a:srgbClr val="fe9b03"/>
              </a:gs>
              <a:gs pos="100000">
                <a:srgbClr val="653d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42960"/>
            <a:ext cx="9132840" cy="38160"/>
          </a:xfrm>
          <a:prstGeom prst="rect">
            <a:avLst/>
          </a:prstGeom>
          <a:gradFill rotWithShape="0">
            <a:gsLst>
              <a:gs pos="0">
                <a:srgbClr val="553400"/>
              </a:gs>
              <a:gs pos="50000">
                <a:srgbClr val="ad6900"/>
              </a:gs>
              <a:gs pos="100000">
                <a:srgbClr val="5534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8120" y="648648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he Instructional Design Proces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9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omponents of Systems Approac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instructional strate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tation of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e and feedba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llow-up activ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instr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ion of materi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liverables which exemplify previous ste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omponents of Systems Approac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formative evaluation of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-to-one prototyp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roup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e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rom formative evaluation used to assess whol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summative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r simply put..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called “Instructional Develop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Basic ID Model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17000" cy="389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1992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k &amp; Carey,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D Resourc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k, W. &amp; Carey, L. (1996)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systematic design of instr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4th ed.). New York: HarperCollins College Publish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ith, P. &amp; Ragan, T. (1999)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tructional desig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2nd ed.). Upper Saddle River, NJ: Merrill Prentice Ha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gne, R., Briggs, L., &amp; Wager, W. (1992)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nciples of instructional desig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4th ed.). Fort Worth, TX: Harcourt Brace College Publis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mbaugh, R., &amp; Magliaro, S. (1997)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stering the possibilities: A process approach to instructional desig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lyn &amp; Bacon: Bos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earning &amp; Instructi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new K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nent change in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ngement of the environment (media-presented information) to facilitat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structional Need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know if you have 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need is gap between existing and desir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al need is a performance need that can be solved by instruction (rather than changes in resources, personnel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structional design is..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atic process of translating principles of learning and instruction into specifications for instructional materials and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mith &amp; Ra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ing a solution to an instructional 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Lock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hat does a designer do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mary role of the designer i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what is important for students to lea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ly arrange the learning environment (media) to maximize the probability of individual student learning (permanent changes in behavio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structional Design is based on.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Systems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interrelated and acting parts that work together toward a common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al Psychology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ehaviorism to Construc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er, receiver,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ional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hat are the advantages of ID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what learner will be able to do as a result of the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age between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irical and replicabl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consistent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s effective assess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ble across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D Process: Step by Step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instructional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instructional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entry behavi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-by-step goal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learners and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of skills and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0a"/>
            </a:gs>
            <a:gs pos="100000">
              <a:srgbClr val="7900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omponents of Systems Approac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performance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specific and measur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clud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ssessment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accurately measuring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rather than late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7:36:22Z</dcterms:created>
  <dc:creator>Barbara Lockee</dc:creator>
  <dc:description/>
  <dc:language>en-US</dc:language>
  <cp:lastModifiedBy>Ed Lener</cp:lastModifiedBy>
  <dcterms:modified xsi:type="dcterms:W3CDTF">2003-04-18T20:05:07Z</dcterms:modified>
  <cp:revision>18</cp:revision>
  <dc:subject/>
  <dc:title>The Instructional Design Process</dc:title>
</cp:coreProperties>
</file>